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D59-6257-43A5-ACE6-1B536776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C63-CCD7-4F8C-8512-7F2E606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6E7C1-923E-4863-A980-A9D342F3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B36C2-192A-457C-9D69-9E04F9C4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135C9-746A-479F-AB10-6027B945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D06AA-C70A-4CBA-AB29-D5227116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DA759-7A2D-493E-8B26-BBB8AFB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7B3C8-26E9-472C-B0AF-067A0C06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983EB-3B47-405D-B6BB-935CF2D1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FB407-5B5B-4CAF-A84C-F8B343CD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0E615-9871-4CE6-BD22-D5B278AD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2B84A-24E4-4B41-8298-D2F0C24C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C67-291A-465A-8DBF-0E170CF4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712BA-49CC-460C-9D6C-2C680614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D2F03-09C7-441B-A600-AD1535B7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18343-878C-4072-80E4-6DA91980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FBA73-DF8A-4D95-9D5E-E1778284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FB1C9-0E65-49AC-A91C-4618249C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D4B64-AD96-47B5-8833-CBB457EB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9E152-8FB9-4090-B71A-37B127B2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C6E1C-91F6-4266-8A9D-504DC72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EBCBF-BFA7-4342-9B4F-6410EB52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2DC27-5611-476C-B18B-6CBFFDB3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E5E-D02C-49A0-8A67-30142EB5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6474E-7493-47D1-81C4-D388A7D2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63CDF-8BB1-453C-B622-CF3DE445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C205D-8EC2-490D-B251-D78DFEB3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1FDA9-17C4-4AE8-B8E3-AA86E8D0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0F389-C4B9-4BD0-B091-9C554EAF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8471B-9360-47F5-B7A5-38A60A30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4D1A6-8E4C-41A9-9B26-24CB2061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BBC9C-7D88-4493-A34D-EB79F7E1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875BF-64EF-4D26-8665-D2C65839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124FC-6690-4A29-AD0F-172F1985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A409-D650-436A-BAA9-87135CDE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57405-BB28-4191-8C96-DA2FB43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A8076-0FF9-4FBE-87A6-FA590FB4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04B12-760E-42AC-B650-7A73CD08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80AAC-7E2E-4724-B01F-7E18280E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75F30-136A-4D54-B9F7-B874FFC9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C6050-611B-413D-8045-98F9CD7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343C5-D0C2-4D5D-8EBD-1FD6C68D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A0824-D7AC-40E6-8233-27C57120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ED0B0-EAF6-4461-BDF9-19024AF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067BC-7366-4DF2-81EF-3DC18031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4B37-548A-4894-A953-5666FF5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945F6-EA1F-45A5-AA8B-76D69389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EE622-9E66-40CC-A240-1921F21A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2C9E7-AC56-4D15-AF15-28DD98CD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E2E56-5E6F-497A-844E-B024CCAF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CB4C0-A62F-49D2-96E2-062EE4F3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E5690-1F8D-49F3-A096-2891F5B2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6714E-8657-4605-9312-88ED87D4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73CD6-39E8-477E-84A2-F31D8CD8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27831-E973-4251-8129-59228C05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21339-ED5C-4C9D-93B6-7BD406A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9DBF-ADB4-4341-A731-CBB0C12F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7716E-128D-46D5-B4DA-DEB3FDE0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BE2E7-CDC4-4106-9014-F63DC147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1FFC9-F51B-43AF-BEDC-6A593A2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A10D3-EA3F-4FBA-B986-53C7438C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02DB6-79B9-44D0-B6D8-2BAC4658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1BDCD-3F02-4255-83A2-F21E902B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0BD1A-FB4C-4A79-BCB0-6C2945AD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1AAFA-F8D0-41FA-BFD5-0275BD51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D77C7-837B-40A5-B146-08D1C1F3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3F463-4014-4866-AD0D-750E7E41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6409-96F1-425A-AC24-0FC04B57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384BC-95BE-403D-8B4A-DE072D39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55547-D1BE-4325-B2F1-209A9752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AEDA8-2547-4DE5-AE7F-187D4179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282A5-6B6D-4457-AE74-B72B6AF9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7C40A-6BA2-4089-AD36-EF3E322B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B0BE7-ACF6-4C46-A275-BB4D88D5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D6DAE-1482-4E1B-A6B6-B9E5BB28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68E42-5941-44FB-AB02-1EB38A8D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DB737-D351-4A00-BCAB-3D85C4BF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E7667-EEEC-4611-9B7B-75D05FA2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6FDC-4102-412E-96F2-B1DC581B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EB533-8167-4780-987E-2131863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1B960-D736-4C7D-BF44-55E54AF8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8F378-E41B-4CC9-849A-68DF8702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F1B6A-068D-470C-B61F-0B2268AC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974EB-B375-44FC-8553-FC43D43A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6CB0A-85B2-4C8C-879A-E7AEEB8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A940F-EDAB-42D7-9115-EC5F827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F1B9E-E706-4210-BB77-84A7E2C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DFC50-A057-4F6E-AE52-10B276A7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3F40D-736A-4FF8-B9EE-4F6434DA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28C7-1B55-48D9-A328-977AB9CA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B3765-D5AF-49B5-A6C4-00850378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6AA38-8B27-4A46-8F3F-DA6B9766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FA067-25B7-4007-991B-2C5583A0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3990C-927C-48A9-8044-258F80C9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4871F-BC88-4D25-80C6-CD9EE1BE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0C257-84D6-471B-BF66-1A0CB288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8F67E-63F8-45F2-8D5E-491B8260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AEFCC-2A51-474B-B646-66CFB60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07723-60B1-4D72-94B0-9186D8F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856A3-BE74-452E-BD5C-240B4C86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1945-E92C-4BCA-953E-9C148C4F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1C3C31-20BA-4331-8F12-A77AE06D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9009B-038D-4ED8-9EBE-B7473A5E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4D7AA-D5CF-4E77-A09E-DFAFC78D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92DDB-D416-4C16-A1BE-F657E9FC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783C3-D65B-4798-A480-76BF414D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173C0-C88D-45F0-B33E-D65AB0A0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FF781-C487-4ECB-84A2-CAE038F5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4C5780-8A8E-406A-816E-DF22C597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087C9-565B-4009-B314-C6C91EF5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EF18D-31B7-4D3B-8919-645DCBB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8E7-C39B-41E0-AD58-B1F4B3CD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0CB5-7C52-40F7-BFDC-3610E2E8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F251C-1492-4CDC-8D3A-A69F9BCA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126927-5B1F-42C8-997F-A936AA23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30D6D-3BFD-477E-8280-DE46A613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43D83-2863-44EB-A634-43760C62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4E240-2342-49F5-86AC-5E540190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B9F9C4-82A6-40C5-A39E-ADB95771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7DE18-5722-454C-B8F6-D9FF3168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18DAC-4E28-414D-AB40-9818CC18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D52B6-FC92-4C70-B632-19B4C22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35706-43D1-49FC-A576-43951423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2182-EEAC-41A5-BDA5-A81CDC8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B4747-4550-48F8-9414-976F12C2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A2139-4CB6-497B-9763-029E3E30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6C9FF3-3CD1-448F-86A3-3200C58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E54C5-F8F5-4FD0-B944-9FA7238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C3D14-6D3A-40FB-992C-F8E9A20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0CAC5-9196-41F1-82CB-BD8FA27F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5B485-8876-4F97-9A3E-C95ECDA4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E950C-1DBE-49AB-8A86-764FDEF5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B898F-D742-4D87-B3E2-99CD6E43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13396-2538-4EBD-A03F-95E66F62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0968-B958-445A-BC3C-5E1FD653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E7DC7-0AF2-4C2C-825A-49B29FF3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887D4-9D56-473A-88E6-24319C28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369AD6-6966-48F0-806E-8DD916D4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15E78-C852-4804-93F8-1E3BF988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1E9B7-4734-4706-BA71-DECF2350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BF61F-5529-45C4-8D39-3B99484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C8B10-D5E1-4AAA-B80F-CB7299BB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EA996-4DE5-4FD4-8B1D-DF452042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3D3608-5D82-4157-9FC9-15A5163A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BD401-DE1C-490B-B80F-B9AAE218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6615-A78E-412E-81A2-C6E9BEA9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58782-355A-4949-AE71-4A0C8892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4A3B4-4569-4B90-8C57-75DEAA9E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A857ED-618F-4DC8-A50D-5A53FC40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E01FE-CEBA-424C-B242-FD8C2C29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1321F-104E-47E4-80F4-DD02E897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4430C-0E3C-4371-A0D1-6E89E07C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4A890-F39A-4A09-B30C-84B773C5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D81393-AEE4-4D2F-9294-E55EE019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25233-0F16-4976-9874-DB196B69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88B89-4B02-4CC0-B2D1-5D8D29AE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A19C-A863-444E-B568-F68E1C57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473876-62B5-437D-A346-C58D6B27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1CE5B-C79B-4C44-9A0E-8D7958E3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C1617-768C-4A8E-9546-4FAA44D4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ABB195-4DE7-4FB8-B1D1-44022D37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458A91-A136-405D-9ACF-02D8CEB7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75A7C0-1962-45CE-BFCE-BD494FEE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D9FEC-2465-4197-8873-191FDAB5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A375FB-B788-4ACB-B776-559BF59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20C7C-8E4E-4006-9D15-A612969D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45CFF-810D-4E33-AD63-518F4DC0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BD3C-CCF5-4FF3-93CF-A1BEFB19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4575A-18E5-47CC-815A-6D0188A2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8D0127-EEBB-487A-AB21-948FDD79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E5137-73AD-43B3-BD44-4DF502EE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4C75-8A79-4406-B89D-0D0DF14B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A027-D18D-49C1-8A90-91F72C7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BA1E-6BFA-4761-8D7E-53D0ED61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AF39-27D9-49C2-AFD5-BF69D3F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DBE-1880-4A0B-9A6A-69809D76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DFEB-4F39-49F0-94EE-B385B672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6CC3-CB5C-4A1B-8B80-7F72334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80D2-FBA4-412E-9F94-04492299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32A7-ABB6-412B-8BF9-48DD774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3EDF-27C8-4DA4-87F3-5655D9FD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6D61-37E2-4C0C-AB88-A15AEC76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2804-31A8-4329-815C-8B4E75FF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EAA2D-CE7F-49FE-BE17-F86CD386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BF17-429C-4E24-BD1A-05A6E02D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5000-1ECD-4AEE-9BAC-A6B975F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719-8909-4482-8096-7C5B7DD1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D0C8-11E8-4E31-937A-B905E4B2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1B49A-A566-4047-B20E-97D736CE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1AE9-55D9-4CCA-B057-9CD00A23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7B15-8BC6-4150-A954-55ECF73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6323-3C52-4122-A6C2-E43E126B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E717-55CC-47E6-BDFF-BD12C1D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52C6E-9B27-4785-AA6D-857472FA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F4D6-FAB2-4577-AE98-BDD87B86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69E0-11F2-4D12-904C-A97B753B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07C3D-46EF-4F18-BB83-8E951A5C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7D0-D5F2-4A84-B4E3-EA505F30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8D1C-6D25-4A68-A273-459EA93B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BDB5A-49CA-4F0C-B4B0-C1BDE62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0DE8E-1F7D-42CF-9174-CBACA5D1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A071-D248-4F14-A0D1-C9CF09C8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C2146-F3D2-4533-B31C-0170085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D97B-4435-493B-ADF1-344DF462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A7FAE-173B-4A84-949A-FB3A692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71582-B53B-4E9E-AF4B-46F38D6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29D6-470D-473A-8A4B-ECE7A09A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483FC-5017-4768-9175-7DFB3366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D86-6150-40C8-B42A-A764933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6BF5-6FC4-45D7-BD49-9638717E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C9E02-0C6F-4BFC-9EA5-F6831112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F593D-0BBC-4601-8648-19DA1FD2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2256B-5489-4AC9-A9E1-D61495F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4E5C6-3252-4AE5-9991-09F4FE1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F783D-A065-479F-909D-F47B364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CBB57-7236-4421-9793-9B409A8C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2FBC7-6B97-43BB-9354-023A7E1A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201F2-9A68-41EC-9858-1239088B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F394-9AE8-458B-9151-DE49080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BC9-5C9B-42A1-A6B8-29BB1E2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6A639-147A-4ECB-AD5D-93B20E28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8AB1-4E99-46FC-9B85-B6FB5E83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AA52C-FB9F-4D98-89F7-8415AFC6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8663-6068-4FDA-839F-235554A0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6EAD4-0822-44B6-887C-8A0B51A3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D6E01-E0A8-4242-8E6A-A98861CA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D94F5-EC14-40C1-AB66-53A533C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82DBE-8250-4E76-A79C-46F27248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EDD70-F1EF-4F05-B9A0-E99DF810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88888-E022-49D9-BB1F-3605D45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4D9-A878-4135-854F-A32DE4B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7B39B-74ED-4CFA-9DAC-EEE2BAD6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1BF57-2C01-4260-94E2-ABBC169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83DC-5C8D-478E-B000-7708A2C6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7D170-9F2D-4CED-9905-1E12678B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51831-C552-44AC-B325-23DA4228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40E5B-29F4-448D-BF31-695948A5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A4D24-5F4D-4E79-8CD6-7F4B3959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21739-DEB6-48C5-BE40-1A6D120A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71994-8C05-4E65-AA37-0B9D388C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E524D-1D3D-463A-81E1-171D9CE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240-2AC7-4A45-9588-CF62A66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D42E8-A138-4000-A819-16D0CF00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2FC7C-CFC8-4969-BC4D-D10372B1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901F1-6755-427D-927D-8797C39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BE3F4-68B5-4B66-9CCA-1E578B19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0C6E0-12F7-4382-A823-FA43A08B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D673A-5B75-4BD5-8C9A-31DD177D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1526C-5352-477F-A9DD-38E78F0E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BBD05-DA28-4D62-A53D-F75E6161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E1724-D062-4282-B4D1-4608C8B9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350CB-2EAA-47AD-9487-1E832FFF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3E37-3AFC-4D67-9771-DD82F45AFC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700-2171-41B9-9771-137F2813F2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A5DE-62FE-4E22-8379-C1F750ACD0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9D7B-4DD8-45EB-ABCC-F27351A96B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E97B-188B-49CB-8138-E67281FE08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9505-6E98-4CE1-B622-5FA994499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EBBC-F2E7-4B8A-BEEC-73D9CFA1D4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1A4A-2BF2-4389-AFF0-1462C34C34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A28E-1231-4314-B22E-0BCE4AAF62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9957-FC1C-4032-B151-ED93B0BE72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7A25-C0C1-40C7-B32D-32F25F6603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5756-D782-4422-A1CF-A53481269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1B79-BEA2-4359-B4EE-CCA05E98D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0EE2-90E8-4415-B6BB-1E1159F9E0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386B-3C55-4BC6-B852-8E4B75F8C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3006-09BF-4693-BBA5-4FA3BCC335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DC14-D3AA-4503-B1F3-A33C995AD1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733B-E49B-4F05-82EA-81D258D1B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A8F8-E7ED-4345-AD9D-CD59106BE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9F52-702F-4BEB-B481-94F04E17F8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8223-0F3B-426E-B27C-5E8F8970A1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65F8-2792-4BCC-8F73-920D7EBF27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DD3C-743B-4E18-A43C-D3FD1BAE52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5683-4C95-4F6B-91E8-9713C854CB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7B1E-1B14-4A41-AD8A-0D06BE548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FE4D-200F-429A-9EB3-C3788EE4B7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A8C7-99A5-40E0-B4C4-7FAAB1C1B9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7A8A-280E-4C25-9631-865C8749A7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CE00-704E-4F25-861E-71BA89B289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B9CD-A8F3-4CFE-8F89-CC38A6E06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732F-D3BE-41C7-9A8A-603D0AC713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FCB-E750-41ED-BD85-CC6FA8916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EAEB-D837-42BE-85B4-93C681CAA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EAC-4EBE-42CE-BFE4-314839F865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6D56-F2BA-481D-9B4B-F51A24AAB6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3809-6221-417A-BF3E-D4FE7E05F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21DB-14A5-4A66-BFD6-7540EB745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E78A-67D4-46DA-957B-30A5A0517B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2EAC-B72A-46C5-9947-AB89D7373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DB98-708B-4433-9472-037959FF4E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971720" y="3200400"/>
            <a:ext cx="5200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1442880"/>
            <a:ext cx="8896320" cy="3972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635280" y="2575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380360" y="258444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627280" y="292428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380360" y="2933640"/>
            <a:ext cx="43164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276720" y="3284640"/>
            <a:ext cx="9349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88000" y="364500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268360" y="4005360"/>
            <a:ext cx="144000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148360" y="4005360"/>
            <a:ext cx="158436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124000" y="4375080"/>
            <a:ext cx="144000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716360" y="4384800"/>
            <a:ext cx="19432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185920" y="4724280"/>
            <a:ext cx="187164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5219640" y="4734000"/>
            <a:ext cx="3313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181080" y="790560"/>
            <a:ext cx="8781840" cy="5591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476360" y="2727360"/>
            <a:ext cx="201600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042920" y="3078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2411280" y="3078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3780000" y="3078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1547640" y="3438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5724360" y="2717640"/>
            <a:ext cx="194328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5148360" y="3068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6732720" y="3078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8317080" y="3068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5896080" y="3438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6588000" y="4932360"/>
            <a:ext cx="194472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6588000" y="5291280"/>
            <a:ext cx="194472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6588000" y="5661000"/>
            <a:ext cx="1944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6516720" y="6021360"/>
            <a:ext cx="1944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8373" descr=""/>
          <p:cNvPicPr/>
          <p:nvPr/>
        </p:nvPicPr>
        <p:blipFill>
          <a:blip r:embed="rId1"/>
          <a:stretch/>
        </p:blipFill>
        <p:spPr>
          <a:xfrm>
            <a:off x="804960" y="2128680"/>
            <a:ext cx="7534080" cy="2600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5796000" y="2565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987640" y="3284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5041800" y="400536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6:2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